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485D-856B-4C90-A7A4-93FB8DB2A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C9E8-6BA3-4213-8818-C7126EF50D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88E1-CABB-49AB-A2BE-0591DE575D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C5DD-C339-4DBB-96C1-112FAB573F5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E746-DE6E-4365-BA28-AD0D70C934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B2E8-40BC-4732-8669-A96DB3F172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35F6-036D-4B52-A533-5D89B745A08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8200-2415-43E0-B6F0-DD22843FF14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DF23-A943-4CE6-AD7C-E4629FAE36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4955-8D74-435A-9D12-BD8A4E8B11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D866-479C-4183-A8F3-10844B078E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331C-254E-4686-A926-666C1C3EAB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734C-0678-4BF9-AB39-6F5CC74B43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6D48-C1FE-49D2-A558-15E50D0298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EEAA-F46C-409C-9F57-DC0D77EE7C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02E0-97DF-48E8-9FBA-A08FB69E30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4598-96DF-4ABB-AD83-9B4205108B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0013-46EE-4B41-AA80-91058EBD25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A590-43E8-44D5-A314-884855955F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5534-99F3-4C7D-BB7B-CEBB67C964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E27E-088A-4DA1-B558-1671D9BE0E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41C4-17A8-4B26-970D-8B25CDAC22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7AC5-56C3-4D79-B63C-A1BECAA6BF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52EF-6C0F-46C6-B5F9-846BD91B8B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ED4A-3516-4E8E-9C58-110498859D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1026-E346-4393-9CF7-6618FE3392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8C44-4771-4C38-85BF-65CED5C7A7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ECF5-FD6D-4D69-9D25-749A6F7B85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9470-6A76-4E07-8A95-8F2983F0AE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B615-B323-4CDD-B897-B203F5D2C8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529F-1028-4DFD-9C37-8A840931AD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4554-F2A4-4153-BD5D-FFF25A1377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FEAB-5658-4DB0-952B-AE2CFCB1C8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0E1C-A809-4163-BC31-56C46E9515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80DF-4E48-4507-A866-8BB78F3369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DEB3-63D5-49F2-9A7F-CE8FCBA919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52AD-8328-4E38-915A-E3419D0447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F1EC-CAF6-4C22-81D8-8C3F7B8C84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DF82-E1AD-4B49-9405-354141390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C8C8-7728-4177-8493-17DA8870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C382-6F1A-4447-A27A-065E4DF8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E0F7-3A53-4D2E-B0E3-75982AFE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26A6-FB45-4709-88D5-62CCAD72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57EF-BF96-4CBA-B29E-311A8F1D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81D5-3B6A-4273-B2A8-199347AA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3B18-CBAC-4C4D-866D-F290CA64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C83B-0600-46D8-B980-9A3CC55C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EABF-0882-4930-B652-1AF086C3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BE83-3C1B-440D-85E4-DC828661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256F-D998-4249-923B-E34E4F30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6D5E-86FC-4418-91DB-619A1E57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AE1A-BD36-4AA3-84EB-E1B9BCF3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6337-F258-4703-871B-4C5C0107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DC1A-2C2E-458B-B972-600BB9C3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5426-D221-478D-ABE2-BB306387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54F-B7E2-4E9D-AB76-15D82FCE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9579-991B-4C65-86C3-3299CD7A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8E98-BD95-4EA6-AA92-879C05FB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5E0A-DEA3-4485-B6EE-186836B1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B3AA-F5ED-4B17-8415-0F070ECB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7F1D-322E-496C-A98A-EC022A64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3977-5E62-4BCE-91CE-7A8F5014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691D-F41F-4962-8A2B-F6AB5425EC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EE6A-3FFB-404C-B480-6569BCBF91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anywhere.com/folder" TargetMode="External"/><Relationship Id="rId2" Type="http://schemas.openxmlformats.org/officeDocument/2006/relationships/hyperlink" Target="http://www.anywhere.com/folder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aol.com/" TargetMode="External"/><Relationship Id="rId2" Type="http://schemas.openxmlformats.org/officeDocument/2006/relationships/hyperlink" Target="http://www.netscape.com/" TargetMode="External"/><Relationship Id="rId3" Type="http://schemas.openxmlformats.org/officeDocument/2006/relationships/hyperlink" Target="http://www.yahoo.com/" TargetMode="External"/><Relationship Id="rId4" Type="http://schemas.openxmlformats.org/officeDocument/2006/relationships/hyperlink" Target="http://www.firstgov.gov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hyperlink" Target="http://www.yahoo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9.xml"/><Relationship Id="rId7" Type="http://schemas.openxmlformats.org/officeDocument/2006/relationships/slide" Target="slide36.xml"/><Relationship Id="rId8" Type="http://schemas.openxmlformats.org/officeDocument/2006/relationships/slide" Target="slide11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oftwareinreview.com/images/windows/vista/windows_vista.pn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mputer Basics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Operating system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2640" y="10663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ol the operations of the computer and its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soft Windo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ows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c OS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untain L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now Leop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ogical devic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kette – A: (older machines onl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Drive - C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D-ROM -  D: (maybe differ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 Storage – (Next letter assigned by Window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Understanding File Storag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1430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S – a collection of data that has a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d by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Word - .doc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Point - .p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l - .xls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L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age location for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s to organize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1085760" y="457200"/>
            <a:ext cx="80535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anaging Files &amp; Fold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zing and keeping track of files and fol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 Hierarchy places files in folders, then place folders in other fol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orking in the Folder Window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lder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nd Rename Files &amp; Fol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arch for Files &amp; Fol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ze Files &amp; Fol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&amp; Move Files &amp; Fol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ete and Restore Files &amp; Fol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Shortcut to a File &amp; Fo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Understanding the clip boa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oves the selected data from its original 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p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s a duplicate of select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elected data that is cut/copy is placed in the clipboard for further 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ata in the clipboard is later inserted in the position where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st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and is issu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chool Networking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ocal Area Network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135920" cy="30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geographical are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i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sts of a number of computers connected to a central comput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4" descr="Fig2-07"/>
          <p:cNvPicPr/>
          <p:nvPr/>
        </p:nvPicPr>
        <p:blipFill>
          <a:blip r:embed="rId1"/>
          <a:stretch/>
        </p:blipFill>
        <p:spPr>
          <a:xfrm>
            <a:off x="3352680" y="4343400"/>
            <a:ext cx="381024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SCHOOL’S LOCAL AREA NETWORK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0" name="Picture 4" descr="Fig2-08"/>
          <p:cNvPicPr/>
          <p:nvPr/>
        </p:nvPicPr>
        <p:blipFill>
          <a:blip r:embed="rId1"/>
          <a:stretch/>
        </p:blipFill>
        <p:spPr>
          <a:xfrm>
            <a:off x="2638440" y="1946160"/>
            <a:ext cx="4834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WHAT IS A PERSONAL COMPUTER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designed for use by one person at a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BM Personal Compu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e Macinto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BM Compati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10" descr="Fig1-04a"/>
          <p:cNvPicPr/>
          <p:nvPr/>
        </p:nvPicPr>
        <p:blipFill>
          <a:blip r:embed="rId1"/>
          <a:stretch/>
        </p:blipFill>
        <p:spPr>
          <a:xfrm>
            <a:off x="1371600" y="5105520"/>
            <a:ext cx="3657600" cy="1527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Fig1-04b"/>
          <p:cNvPicPr/>
          <p:nvPr/>
        </p:nvPicPr>
        <p:blipFill>
          <a:blip r:embed="rId2"/>
          <a:stretch/>
        </p:blipFill>
        <p:spPr>
          <a:xfrm>
            <a:off x="6172200" y="4897440"/>
            <a:ext cx="2666880" cy="19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erv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24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entral computer that manages resources on a network and provides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computers are called clients or works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1066680" y="3978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ub/Switch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095480" y="4800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nects the computers to printers and Internet 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ide Area Net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538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vers a large geographic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ool Distr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Picture 4" descr="Fig2-09"/>
          <p:cNvPicPr/>
          <p:nvPr/>
        </p:nvPicPr>
        <p:blipFill>
          <a:blip r:embed="rId1"/>
          <a:stretch/>
        </p:blipFill>
        <p:spPr>
          <a:xfrm>
            <a:off x="6172200" y="2286000"/>
            <a:ext cx="2774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THE BENEFITS OF COMPUTER NETWORKS IN EDUCATIO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ing of computer hardware, software, and data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mited educational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cate with other educators and stud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4" descr="Fig2-11"/>
          <p:cNvPicPr/>
          <p:nvPr/>
        </p:nvPicPr>
        <p:blipFill>
          <a:blip r:embed="rId1"/>
          <a:stretch/>
        </p:blipFill>
        <p:spPr>
          <a:xfrm>
            <a:off x="5132520" y="2705040"/>
            <a:ext cx="380988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WIRELESS SCHOOLS AND CLASSROOM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ebook compu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held compu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reless technology brings the computer lab to stud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Picture 4" descr="Fig2-10"/>
          <p:cNvPicPr/>
          <p:nvPr/>
        </p:nvPicPr>
        <p:blipFill>
          <a:blip r:embed="rId1"/>
          <a:stretch/>
        </p:blipFill>
        <p:spPr>
          <a:xfrm>
            <a:off x="5132520" y="2717640"/>
            <a:ext cx="38098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HIGH SPEED OR 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BROADBAND ACCES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vernment works to provide high speed Internet access to classro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adband technology transmits signals at much faster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nternet and World Wide Web   Overview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17" name="Picture 6" descr="C:\Documents and Settings\Issac\Application Data\Microsoft\Media Catalog\Downloaded Clips\cl2\BD07246_.wmf"/>
          <p:cNvPicPr/>
          <p:nvPr/>
        </p:nvPicPr>
        <p:blipFill>
          <a:blip r:embed="rId1"/>
          <a:stretch/>
        </p:blipFill>
        <p:spPr>
          <a:xfrm>
            <a:off x="3886200" y="685800"/>
            <a:ext cx="181944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INTERNET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ldwide group of connected networks that allow public access to information and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imated 1.5 billion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ety of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ingle organization owns or contr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6"/>
          <p:cNvSpPr/>
          <p:nvPr/>
        </p:nvSpPr>
        <p:spPr>
          <a:xfrm>
            <a:off x="7826400" y="6553080"/>
            <a:ext cx="338040" cy="3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nnect to the Internet though an Internet Service Provider (ISP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ble mod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ital Subscriber Line (DS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ber Optics (Fi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WORLD WIDE WEB (WWW) 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in 199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ldwide collection of electronic docu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t-in Hyperlin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phical interfa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4" descr="C:\Documents and Settings\Issac\Application Data\Microsoft\Media Catalog\Downloaded Clips\cl55\j0213540.gif"/>
          <p:cNvPicPr/>
          <p:nvPr/>
        </p:nvPicPr>
        <p:blipFill>
          <a:blip r:embed="rId1"/>
          <a:stretch/>
        </p:blipFill>
        <p:spPr>
          <a:xfrm>
            <a:off x="5867280" y="1371600"/>
            <a:ext cx="160020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eb Sit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lection of related web pages -electronic docu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phi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de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web site has a home p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ing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te purp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te con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Other Personal Comput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Uniform Resource Locators (URL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28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que address for each page on a web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anywhere.Com/fo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ertext Transfer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ion protocol used to transfer pages on the web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1028" descr="C:\Documents and Settings\Issac\Application Data\Microsoft\Media Catalog\Downloaded Clips\cl7b\j0309261.jpg"/>
          <p:cNvPicPr/>
          <p:nvPr/>
        </p:nvPicPr>
        <p:blipFill>
          <a:blip r:embed="rId3"/>
          <a:stretch/>
        </p:blipFill>
        <p:spPr>
          <a:xfrm>
            <a:off x="2743200" y="5224320"/>
            <a:ext cx="3657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-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eb Browsers at 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799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ftware that allows you to browse the 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sc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soft Internet Explor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zilla Firef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fa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eb Portal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y of looking at the 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 Are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Netsc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Yaho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ject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Firstgov-gover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earch Eng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website that locate information on the WW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Goo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Yaho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av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nternet Address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main na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ed numeric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447920" y="41148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WW.SCSITE.C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447920" y="4876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98.112.168.22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orld Wide Web (WWW) Domain  Suffix Names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xyz.EDU  -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xyz.GOV  -Gover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xyz.ORG - Organ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xyz.COM-  Comp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xyz.NET -  Comp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066320" y="26668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ology is everyw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ology can support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s support communications beyond classroom w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of National Technology Stand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www.teachertube.com/viewVideo.php?video_id=167&amp;title=Why_teach_technology_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21337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y Use Computer Technology in Education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CHNOLOGY STANDARD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320" y="1945800"/>
            <a:ext cx="787572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ational Society for Technology in Education (ISTE)- provides a framework for implementing technology in teaching and learning through the National Educational Technology Standards (NETS)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r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96440" cy="129564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COMPUTER, INFORMATION AND INTEGRATION LITERACY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9644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omputer literac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Knowledge and understanding of computers and their us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Information literac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Knowing how to find, analyze, and use inform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Integration literac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ability to use computers and other technologies combined with a variety of teaching and learning strateg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MPUTER SOFTWA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475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eries of instructions that tells the hardware of a computer how to perform tas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d on various storage me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D or DV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mb/flash dr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MPUTER SOFTWA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028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 SOFTWARE – Programs that control the oper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ICATION SOFTWARE – Programs designed to perform specific tasks for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ucat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sines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tific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MPUTER SOFTWA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d Proce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readshe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ation graph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7" descr="Fig1-16"/>
          <p:cNvPicPr/>
          <p:nvPr/>
        </p:nvPicPr>
        <p:blipFill>
          <a:blip r:embed="rId1"/>
          <a:stretch/>
        </p:blipFill>
        <p:spPr>
          <a:xfrm>
            <a:off x="5100480" y="2568600"/>
            <a:ext cx="3797280" cy="24861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9"/>
          <p:cNvSpPr/>
          <p:nvPr/>
        </p:nvSpPr>
        <p:spPr>
          <a:xfrm>
            <a:off x="5410080" y="51055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eWorks is a popular suite used by teachers and students primarily on Macintosh comp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MPUTER SOFTWA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d Proce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Wo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eadsh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Exc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Ac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4">
            <a:hlinkClick r:id="rId4" action="ppaction://hlinksldjump"/>
          </p:cNvPr>
          <p:cNvSpPr/>
          <p:nvPr/>
        </p:nvSpPr>
        <p:spPr>
          <a:xfrm>
            <a:off x="3581280" y="26668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5">
            <a:hlinkClick r:id="rId5" action="ppaction://hlinksldjump"/>
          </p:cNvPr>
          <p:cNvSpPr/>
          <p:nvPr/>
        </p:nvSpPr>
        <p:spPr>
          <a:xfrm>
            <a:off x="3581280" y="49528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6">
            <a:hlinkClick r:id="rId6" action="ppaction://hlinksldjump"/>
          </p:cNvPr>
          <p:cNvSpPr/>
          <p:nvPr/>
        </p:nvSpPr>
        <p:spPr>
          <a:xfrm>
            <a:off x="3581280" y="38098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7">
            <a:hlinkClick r:id="rId7" action="ppaction://hlinksldjump"/>
          </p:cNvPr>
          <p:cNvSpPr/>
          <p:nvPr/>
        </p:nvSpPr>
        <p:spPr>
          <a:xfrm>
            <a:off x="7467480" y="60958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8">
            <a:hlinkClick r:id="rId8" action="ppaction://hlinksldjump"/>
          </p:cNvPr>
          <p:cNvSpPr/>
          <p:nvPr/>
        </p:nvSpPr>
        <p:spPr>
          <a:xfrm>
            <a:off x="73152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MPUTER SOFTWA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295280"/>
            <a:ext cx="7772400" cy="476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 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ting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soft Wind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e 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14" descr="http://tbn0.google.com/images?q=tbn:ELOoer6OPeE6pM:http://www.softwareinreview.com/images/windows/vista/windows_vista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191120"/>
            <a:ext cx="3033720" cy="2438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http://t2.gstatic.com/images?q=tbn:ANd9GcTyfRTd2Gipnw1C1mpSERtPBvIgvGOd98KuChLJ3ErxYF2uMfIhWQ"/>
          <p:cNvPicPr/>
          <p:nvPr/>
        </p:nvPicPr>
        <p:blipFill>
          <a:blip r:embed="rId3"/>
          <a:stretch/>
        </p:blipFill>
        <p:spPr>
          <a:xfrm>
            <a:off x="6329520" y="1066680"/>
            <a:ext cx="2508120" cy="292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30T13:26:22Z</dcterms:created>
  <dc:creator>Steven Freund</dc:creator>
  <dc:description/>
  <cp:keywords/>
  <dc:language>en-US</dc:language>
  <cp:lastModifiedBy>Edwards Valrie</cp:lastModifiedBy>
  <cp:lastPrinted>2009-04-22T19:24:48Z</cp:lastPrinted>
  <dcterms:modified xsi:type="dcterms:W3CDTF">2012-07-02T19:59:09Z</dcterms:modified>
  <cp:revision>122</cp:revision>
  <dc:subject/>
  <dc:title>Shelly Cashman Series  Discovering Computers A Link to the Future</dc:title>
</cp:coreProperties>
</file>